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369432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0080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656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908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656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908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0080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080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69432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de3fd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6680" indent="-25668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35040" indent="-27288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052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8452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9507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9507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9507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章  网页设计工具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Dreamweaver</a:t>
            </a: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563868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■ 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3.1  Macromedia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Dreamweaver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4</a:t>
            </a: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ea typeface="宋体"/>
                <a:hlinkClick r:id="rId5" action="ppaction://hlinksldjump"/>
              </a:rPr>
              <a:t>的工作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■ 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.2  </a:t>
            </a:r>
            <a:r>
              <a:rPr b="1" lang="zh-CN" sz="2800" spc="-1" strike="noStrike" u="sng">
                <a:solidFill>
                  <a:srgbClr val="009900"/>
                </a:solidFill>
                <a:uFillTx/>
                <a:latin typeface="Times New Roman"/>
                <a:ea typeface="宋体"/>
                <a:hlinkClick r:id="rId8" action="ppaction://hlinksldjump"/>
              </a:rPr>
              <a:t>文档的基本操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99"/>
              </a:solidFill>
              <a:latin typeface="Arial Narrow"/>
              <a:ea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浮动面板的移动和重设大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拖动浮动面板的标题栏，就可以将浮动面板在桌面上移动，浮动面板的位置并不局限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文档窗口内，实际上，它可以移动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桌面上的任何位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了启动面板和属性面板，其他大多数的浮动面板，包括对象面板和可停靠浮动面板，其大小都可以任意调整，通过拖动浮动面板的边框，就可以改变其大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停靠浮动面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"/>
          <p:cNvSpPr/>
          <p:nvPr/>
        </p:nvSpPr>
        <p:spPr>
          <a:xfrm>
            <a:off x="3605040" y="2786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网页制作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72000" cy="3041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4572000"/>
            <a:ext cx="449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有多个选项卡的可停靠浮动面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43360" y="1981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网页制作9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207180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43200" y="5715000"/>
            <a:ext cx="5867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8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 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窗口菜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99"/>
              </a:solidFill>
              <a:latin typeface="Arial Narrow"/>
              <a:ea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64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状态行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3124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553080" cy="1433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4572000"/>
            <a:ext cx="3962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99"/>
              </a:solidFill>
              <a:latin typeface="Arial Narrow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窗口的状态行上一些功能设置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0~3-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：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记选择器                   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大小弹出菜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大小弹出菜单        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§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大小和下载速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微型启动栏                   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状态条属性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尺和网格                  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中文环境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找帮助信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2895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网页制作11" descr=""/>
          <p:cNvPicPr/>
          <p:nvPr/>
        </p:nvPicPr>
        <p:blipFill>
          <a:blip r:embed="rId1"/>
          <a:stretch/>
        </p:blipFill>
        <p:spPr>
          <a:xfrm>
            <a:off x="2362320" y="1639800"/>
            <a:ext cx="49672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14600" y="5181480"/>
            <a:ext cx="441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大小弹出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43200" y="2085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网页制作12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495680" cy="330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5181480"/>
            <a:ext cx="510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选择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71720" y="2185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网页制作13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748040" cy="347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3720" y="533412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字体和编码方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00600" y="2523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网页制作15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2884680" cy="3886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52480" y="5486400"/>
            <a:ext cx="579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 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“帮助”菜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57600" y="232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网页制作14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938480" cy="300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518148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 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帮助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3.2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文档的基本操作</a:t>
            </a: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文档的创建和存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2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理解空白文档的初始代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2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添加文本和插入对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2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使用历史面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2.5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辑网页的头部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400800"/>
            <a:ext cx="121896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ff"/>
                </a:solidFill>
                <a:latin typeface="Times New Roman"/>
                <a:ea typeface="隶书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.1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Macromedia Dreamweaver 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的工作环境</a:t>
            </a:r>
            <a:endParaRPr b="1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Arial"/>
                <a:ea typeface="宋体"/>
                <a:hlinkClick r:id="rId1" action="ppaction://hlinksldjump"/>
              </a:rPr>
              <a:t>3.1.1   </a:t>
            </a:r>
            <a:r>
              <a:rPr b="1" lang="zh-CN" sz="2800" spc="-1" strike="noStrike" u="sng">
                <a:solidFill>
                  <a:srgbClr val="009900"/>
                </a:solidFill>
                <a:uFillTx/>
                <a:latin typeface="Arial"/>
                <a:ea typeface="宋体"/>
                <a:hlinkClick r:id="rId2" action="ppaction://hlinksldjump"/>
              </a:rPr>
              <a:t>启动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Arial"/>
                <a:ea typeface="宋体"/>
                <a:hlinkClick r:id="rId3" action="ppaction://hlinksldjump"/>
              </a:rPr>
              <a:t>Dreamweaver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Arial"/>
                <a:ea typeface="宋体"/>
                <a:hlinkClick r:id="rId4" action="ppaction://hlinksldjump"/>
              </a:rPr>
              <a:t> 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00"/>
                </a:solidFill>
                <a:uFillTx/>
                <a:latin typeface="Arial"/>
                <a:ea typeface="宋体"/>
                <a:hlinkClick r:id="rId5" action="ppaction://hlinksldjump"/>
              </a:rPr>
              <a:t>3.1.2 </a:t>
            </a:r>
            <a:r>
              <a:rPr b="1" lang="zh-CN" sz="2800" spc="-1" strike="noStrike" u="sng">
                <a:solidFill>
                  <a:srgbClr val="009900"/>
                </a:solidFill>
                <a:uFillTx/>
                <a:latin typeface="宋体"/>
                <a:ea typeface="宋体"/>
                <a:hlinkClick r:id="rId6" action="ppaction://hlinksldjump"/>
              </a:rPr>
              <a:t> 认识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Arial"/>
                <a:ea typeface="宋体"/>
                <a:hlinkClick r:id="rId7" action="ppaction://hlinksldjump"/>
              </a:rPr>
              <a:t>Dreamweaver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Arial"/>
                <a:ea typeface="宋体"/>
                <a:hlinkClick r:id="rId8" action="ppaction://hlinksldjump"/>
              </a:rPr>
              <a:t> 4</a:t>
            </a:r>
            <a:r>
              <a:rPr b="1" lang="zh-CN" sz="2800" spc="-1" strike="noStrike" u="sng">
                <a:solidFill>
                  <a:srgbClr val="009900"/>
                </a:solidFill>
                <a:uFillTx/>
                <a:latin typeface="Arial"/>
                <a:ea typeface="宋体"/>
                <a:hlinkClick r:id="rId9" action="ppaction://hlinksldjump"/>
              </a:rPr>
              <a:t>的窗口结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1.3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浮动面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6400800"/>
            <a:ext cx="121896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ff"/>
                </a:solidFill>
                <a:latin typeface="Times New Roman"/>
                <a:ea typeface="隶书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3.2.1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文档的创建和存储</a:t>
            </a: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空白文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“文件”菜单，选择“新建”命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打开现有文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资源管理器打开文档的图标，选择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”命令；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经启动的情况下，打开“文件”菜单，选择“打开”命令；打开“文件”菜单，选择“导入”，再选择“导入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ord HTML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来打开该文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99"/>
              </a:solidFill>
              <a:latin typeface="Arial Narrow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基于模板创建文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需要使用的模板，单击“选择”按钮，即可基于模板创建新文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存储文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文档的方法与一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程序差别不大，这里无需多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关闭文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“文件”菜单，选择“关闭”命令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3.2.2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理解空白文档的初始代码</a:t>
            </a: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的开始和结束标记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中所有的内容都应该在这两个标记之间，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总是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，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束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ad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ad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于文档的头部，用于包含当前文档的有关信息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tle&gt;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的头部，也即位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ad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ad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记之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ody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ody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定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的正文部分，通常它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ad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记之后，而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记之前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3.2.3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添加文本和插入对象</a:t>
            </a: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直接在文档窗口中键入文本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对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“插入”菜单，选择要插入对象的菜单项命令或显示对象面板，找到要插入对象对应的按钮。单击（拖动按钮）即可在插入点所在位置插入对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99"/>
              </a:solidFill>
              <a:latin typeface="Arial Narrow"/>
              <a:ea typeface="宋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64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日期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"/>
          <p:cNvSpPr/>
          <p:nvPr/>
        </p:nvSpPr>
        <p:spPr>
          <a:xfrm>
            <a:off x="3471840" y="2724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网页制作16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071960" cy="2608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743200" y="5334120"/>
            <a:ext cx="36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日期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1760" y="990360"/>
            <a:ext cx="7194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特殊字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6190560" y="1752480"/>
            <a:ext cx="91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-1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的字符及其参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843200" y="1905120"/>
          <a:ext cx="3913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1905120"/>
                    <a:ext cx="3913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67000" y="2557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095880" cy="4070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00200" y="541008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象面板上的特殊字符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360" y="837720"/>
            <a:ext cx="7194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水平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和编辑水平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解水平线标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r&gt;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2205000" y="3228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网页制作18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7467840" cy="741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28800" y="4800600"/>
            <a:ext cx="4952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水平线的属性面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99"/>
              </a:solidFill>
              <a:latin typeface="Arial Narrow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文档窗口中选择元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可见元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制不可见元素的显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不可见元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头部元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67120" y="2252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网页制作19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800600" cy="3519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81080" y="5105520"/>
            <a:ext cx="510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不可见元素的显示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3.1.1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启动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宋体"/>
              </a:rPr>
              <a:t>Dreamweaver 4</a:t>
            </a: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种常用方法：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打开“开始”菜单，选择“程序”，选择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cromedia Dreamweaver 4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选择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 4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即可启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窗口或资源管理器中直接启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载入要编辑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，首先选中要编辑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图标，单击鼠标右键，选择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dit with Dreamweaver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即可启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载入要编辑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档。启动后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7194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文档的页面属性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“修改”菜单，选择“页面属性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3038400" y="2286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网页制作20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4886280" cy="3641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631920" y="2133720"/>
            <a:ext cx="91188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面属性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250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3.2.4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使用历史面板</a:t>
            </a: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2857680" y="2762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2608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09680" y="487692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历史面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3.2.5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编辑网页的头部内容</a:t>
            </a: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64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头部内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3309840" y="2800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995720" cy="2487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71600" y="5334120"/>
            <a:ext cx="5867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象面板上的头部元素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99"/>
              </a:solidFill>
              <a:latin typeface="Arial Narrow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认识头部元素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数据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ta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部的主要组成部分，主要用于表示一个文档的页面信息，这些信息可以被计算机识别，用于某些特定的场合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meta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记：是实现元数据的主要标记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base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记：定义了文档的基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，参见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-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link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记：定义了文档之间的包含。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头部可以包含任意数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nk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记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743200" y="1752480"/>
            <a:ext cx="38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-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arge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属性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3124080"/>
          <a:ext cx="61722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1722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7720" y="106668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元数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"/>
          <p:cNvSpPr/>
          <p:nvPr/>
        </p:nvSpPr>
        <p:spPr>
          <a:xfrm>
            <a:off x="2943360" y="2833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网页制作23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133960" cy="1876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14600" y="4876920"/>
            <a:ext cx="419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元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99"/>
              </a:solidFill>
              <a:latin typeface="Arial Narrow"/>
              <a:ea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9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关键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900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网页制作24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876920" cy="1781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362320" y="4800600"/>
            <a:ext cx="441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关键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99"/>
              </a:solidFill>
              <a:latin typeface="Arial Narrow"/>
              <a:ea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描述信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对象面板上的“插入描述”按钮。这时会出现一个对话框，提示输入描述信息，该对话框同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-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对话框类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914040"/>
            <a:ext cx="719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定义自动刷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2981160" y="2952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网页制作25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781960" cy="1730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438280" y="5029200"/>
            <a:ext cx="441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义刷新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64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基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"/>
          <p:cNvSpPr/>
          <p:nvPr/>
        </p:nvSpPr>
        <p:spPr>
          <a:xfrm>
            <a:off x="3281400" y="2971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网页制作26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05400" cy="1914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666880" y="4876920"/>
            <a:ext cx="381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基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67160" y="1785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042920"/>
            <a:ext cx="4876560" cy="39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09680" y="5486400"/>
            <a:ext cx="4724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 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窗口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58320" y="99072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64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文档链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"/>
          <p:cNvSpPr/>
          <p:nvPr/>
        </p:nvSpPr>
        <p:spPr>
          <a:xfrm>
            <a:off x="3195720" y="29052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网页制作27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576680" cy="1741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362320" y="4876920"/>
            <a:ext cx="449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文档链接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38080" y="12193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ff"/>
                </a:solidFill>
                <a:latin typeface="Monotype Corsiva"/>
                <a:ea typeface="宋体"/>
              </a:rPr>
              <a:t>Thank you very much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0080" y="2895480"/>
            <a:ext cx="3061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本章到此结束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谢谢您的光临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endshow"/>
          </p:cNvPr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3.1.2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认识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Dreamweaver 4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的窗口结构</a:t>
            </a: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2440" indent="-26244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reamweav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程序操作环境包括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6244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工具条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档窗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6244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启动栏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对象面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6244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属性面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可停靠浮动面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6244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标题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菜单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6244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状态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6362640"/>
            <a:ext cx="16002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3.1.3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控制浮动面板</a:t>
            </a:r>
            <a:endParaRPr b="1" lang="en-US" sz="36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51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启动面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启动面板上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SS Styles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样式）按钮，即会将可停靠浮动面板上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SS Styl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卡激活到顶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"/>
          <p:cNvSpPr/>
          <p:nvPr/>
        </p:nvSpPr>
        <p:spPr>
          <a:xfrm>
            <a:off x="3328920" y="3014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05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5029200" cy="1676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3880" y="556272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面板和微型启动栏的对应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33800" y="2219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网页制作3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4800600" cy="403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38280" y="5486400"/>
            <a:ext cx="419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启动面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37720" y="990360"/>
            <a:ext cx="719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对象面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328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3962160" cy="3813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19160" y="1143000"/>
            <a:ext cx="91188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对象面板上选择对象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837720" y="914040"/>
            <a:ext cx="719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属性面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2238480" y="3219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网页制作6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095880" cy="723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33720" y="281952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中文本时的属性面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219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网页制作7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019920" cy="80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14600" y="49528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中图像时的属性面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0:46:52Z</dcterms:created>
  <dc:creator>Andy Sweet</dc:creator>
  <dc:description/>
  <dc:language>en-US</dc:language>
  <cp:lastModifiedBy>ya6</cp:lastModifiedBy>
  <dcterms:modified xsi:type="dcterms:W3CDTF">2003-02-27T06:25:58Z</dcterms:modified>
  <cp:revision>87</cp:revision>
  <dc:subject/>
  <dc:title>Module 7: Designing a Multiple Domain Structure</dc:title>
</cp:coreProperties>
</file>